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wmf" ContentType="image/x-wmf"/>
  <Override PartName="/ppt/media/image10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3072-A82E-4F87-904C-BDE813D65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ous optimisons la performance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’ensemble des fonctions 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ntreprises manufacturières, 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évisant leurs offres de produit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ette optimisation 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incipalement mesurable par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acteurs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-Une meilleure perception par 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rché des produits de nos client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- Un rehaussement du nivea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echnologique, productivité et de l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Qualité des produits fabriqué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-Augmentation des marg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énéficiair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ous recherchons à l’échel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ndiale les technologies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abrication les plus productive ain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que les matériaux les pl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usceptibles de conférer un avant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echnologique commercial 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nancier à nos client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15E-4BBC-4A8A-8BF5-F51FF194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E25-4343-4165-8405-E681851E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FB6-892E-44EE-92CD-ECAB5369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985-773B-4A13-B7CC-9497B809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8C70-0CD5-4C51-BCA9-B278BF91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ACE1-2757-49E4-BBAF-34A4F9D0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1E86-5996-4F67-A93A-E4CC3F1A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ABA2-B1FA-4098-83CD-B887DE3C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B74D-0D01-43B4-90AC-99D767A4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2681-24B9-4C87-BE91-B5869B05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23BE-8687-4A3F-B696-0D9E00E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A01-61D4-46B0-9B22-B46796BC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A510-6CDC-465C-AAD6-BD59B7A2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37D4-74F1-41F6-9B41-C688DDFF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9B32-61F0-4F00-B249-F8981EF5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4093-712D-4B54-A387-36E19934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6E59-300C-4A8D-B6C5-CA493FAD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C4E-6765-4341-BAC6-DEE230E3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CF8-C56F-4D62-82CB-36179F39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F398-4F5C-4727-91A3-FA234750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0A0-4B0E-4FC5-8A7A-5291907C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193-938E-4EE9-95B1-943718CA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8C4-7065-4003-ABA0-554090E6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1BB-B18A-409C-8EBB-CA7FE1CE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1D14-A4EE-48A9-8F97-6CD6CB6308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0" y="6446880"/>
            <a:ext cx="2841480" cy="4111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380360" y="5711760"/>
            <a:ext cx="1763640" cy="11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44B2-4C29-45B8-A835-8808A5907E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02440" y="4944960"/>
            <a:ext cx="2941560" cy="1913040"/>
          </a:xfrm>
          <a:prstGeom prst="rect">
            <a:avLst/>
          </a:prstGeom>
          <a:ln w="0">
            <a:noFill/>
          </a:ln>
        </p:spPr>
      </p:pic>
      <p:sp>
        <p:nvSpPr>
          <p:cNvPr id="105" name="Sous-titre 2"/>
          <p:cNvSpPr/>
          <p:nvPr/>
        </p:nvSpPr>
        <p:spPr>
          <a:xfrm>
            <a:off x="826920" y="1557360"/>
            <a:ext cx="831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900" spc="-1" strike="noStrike">
                <a:solidFill>
                  <a:srgbClr val="000000"/>
                </a:solidFill>
                <a:latin typeface="Arial"/>
              </a:rPr>
              <a:t>GES 855 – Étude de Ca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900" spc="-1" strike="noStrike">
                <a:solidFill>
                  <a:srgbClr val="000000"/>
                </a:solidFill>
                <a:latin typeface="Arial"/>
              </a:rPr>
              <a:t>Mise en Place d’un processus de veille pour Xsee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90680" y="4599000"/>
            <a:ext cx="6818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bler le plan d’aff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entreprise dès le dé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valuer les ressources disponi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’entreprise pour la ve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ifier l’architecture d’un wik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ant de le cré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Recommand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herche d’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urer des règles pour le wiki, en collaboration avec tous les utilis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tre à jour régulièrement le wiki pour conserver son efficacité opti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r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C:\Documents and Settings\Manuelle\Local Settings\Temporary Internet Files\Content.IE5\BVOV1L1B\MCj04337970000[1].png"/>
          <p:cNvPicPr/>
          <p:nvPr/>
        </p:nvPicPr>
        <p:blipFill>
          <a:blip r:embed="rId2"/>
          <a:stretch/>
        </p:blipFill>
        <p:spPr>
          <a:xfrm>
            <a:off x="3000240" y="1643040"/>
            <a:ext cx="37864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Présentation du cli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treprise tactique et inventive qui util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design indust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stratégies de développement d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technologies avancés de fabr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mme outils de création de val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5400000">
            <a:off x="281520" y="3971160"/>
            <a:ext cx="1374840" cy="1731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76360" y="5002200"/>
            <a:ext cx="2916360" cy="1666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 rot="5400000">
            <a:off x="4162320" y="4025520"/>
            <a:ext cx="1654200" cy="204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435640" y="5373720"/>
            <a:ext cx="136980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423200" y="5013360"/>
            <a:ext cx="1720800" cy="184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124000" y="4076640"/>
            <a:ext cx="1621080" cy="144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 rot="5400000">
            <a:off x="6699960" y="3893040"/>
            <a:ext cx="10825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Une de leur plus belles créations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7214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Analyse des besoins du cli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Historiquement: conceptions confinées à un seul domaine de l’industrie (ex: spo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fil du temps: constatation que les innovations dans un domaine sont souvent adaptables à d’aut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ur veille aujourd’hui: surtout « ad hoc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urs champs d’intérêt: tous les domai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tériaux utilisés: tous, sans exclu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Analyse des besoins du client suit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1752480"/>
            <a:ext cx="647712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 de leurs domaines d’intérê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urant : les emballages alim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ndances du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mandes du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rég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technologies émer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besoins des consomm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Être à l’affût des particularité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é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Notre mandat: emballages alimentai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tant donné les besoins de Xseed, nous avons décidé d’établir un plan de veille stratégique axé s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ille Commer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ille Concurrent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ille Techn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s avons déployé une plate-forme de veille en l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s avons proposé des méthodes d’analyse qui permettront de transposer ce plan de veille à d’autres dom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1156" r="1908" b="4395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Place à la plate-forme de veill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Pourquoi un Wiki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plus en plus répan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ère très dynamique parfait pour une entreprise de type start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plupart sont gratu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plate-forme légère et modu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Pourquoi ClearWiki?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Ne requière pas de serveur d’hébergement, éditeur WYSIWYG, possibilité d’attacher des fichiers, ope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Défis rencontré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er un axe stratégique du plan d’affaire de l’entreprise (orientation emballage alimentai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ouver le site wiki le plus appropri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r des méthodes d’analyse adaptées à chaque type de veil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0:57:49Z</dcterms:created>
  <dc:creator>Manuelle Gagnon</dc:creator>
  <dc:description/>
  <dc:language>en-US</dc:language>
  <cp:lastModifiedBy>Éric</cp:lastModifiedBy>
  <dcterms:modified xsi:type="dcterms:W3CDTF">2009-09-28T14:33:34Z</dcterms:modified>
  <cp:revision>85</cp:revision>
  <dc:subject/>
  <dc:title>La Boutique en ligne</dc:title>
</cp:coreProperties>
</file>